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443-EFC5-4068-B4BD-65B66944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BE9-E4EF-48F0-9F89-2CF3C78A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C2B2-C825-4F97-A8B5-C16A0625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154-5A4A-4DE7-81BD-59F30DCB7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A52F-DD9D-47DF-B0B0-342A39CD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F1A0-71E1-4B5A-9444-C1985BB6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EDB67-A48F-4630-A550-8DA2F22B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B014-2389-456B-9B54-AE5D5863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73EC-4E93-485C-81A5-F2AED10D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4BF28-A1F3-439A-820C-9C959F7C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4ACA-C8B1-4EB5-84BD-FD9F70CC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C36-678B-4782-8086-BA69EE6C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19524-323C-4BF0-AA46-DDDB018B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6125-E0B5-4060-A105-D9994E3B9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9DE42-D3AC-49BD-AC12-226AD73C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13EBE-766B-4042-8F31-04B136ECA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9AC4-3A29-4718-9EFB-ECF9E94DC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2271-402C-4A83-A311-244BF0F9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621A-35FF-4A61-9124-AB49D18C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61F0-1BD2-4754-90E4-D2DA3DF7A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F2F2-44BC-4DF1-B6A4-840A9B99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252B-816A-4FFA-8FCF-76847F713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186-5FA9-45AD-97B7-9B6C1D1B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C4E4-9543-437C-9C34-8D381EB6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C1CB6-F12F-4DD4-A0CE-FE3DF7B63AC7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89FB-593E-4CD9-86DC-D153CEAA5750}" type="slidenum">
              <a:rPr b="0" lang="cs-CZ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AIMFD – implementace v České republ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789000"/>
            <a:ext cx="64008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Jan Šovar, MF Č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Next Steps in Asset Management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Bratislava, 26.4.201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Výhrada prezenta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Obsah zobrazený v této prezentaci, jakož i ústní projev ji doprovázejí, odráží individuální názory, hodnocení a přístup přednášejícího, jež se nemusí shodovat se stávajícími či potenciálními názory, hodnoceními nebo přístupem Ministerstva financí ani nepředstavují jeho oficiální pozici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Osnov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asový harmonogr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IFMD a související předpisy EU (prováděcí nařízení, EuVeCaF, EuSEF, UCITS V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jetí transpozice v Č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latforma nového záko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ůsobnost: AIFM a AI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zitivní a negativní rozsah dohle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eaeaea"/>
                </a:solidFill>
                <a:latin typeface="Tahoma"/>
              </a:rPr>
              <a:t>Děkuji za pozornos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12:55:35Z</dcterms:created>
  <dc:creator>12885</dc:creator>
  <dc:description/>
  <dc:language>en-US</dc:language>
  <cp:lastModifiedBy>Jana Michalíková - AKAT</cp:lastModifiedBy>
  <dcterms:modified xsi:type="dcterms:W3CDTF">2012-04-24T12:55:50Z</dcterms:modified>
  <cp:revision>5</cp:revision>
  <dc:subject/>
  <dc:title>AIMFD – implementace v České republice</dc:title>
</cp:coreProperties>
</file>